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ACC-AF13-4CED-801E-EB758028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D19-1771-473B-AB4B-49A71925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BD5-6166-4938-B467-00164EE9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654-160A-4850-94E3-4271E6FC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4F3-65BC-4189-A2EE-EF41228F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2431-ADFC-45A9-8D15-8F5EE08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43E6-EEAB-453E-8682-B08153CE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A59-07A3-4685-BF10-C54A22E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9D5-F115-401B-9DA4-3AB339B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6C8-B78F-4A36-AB1B-0867A9E8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6B9-F50A-4200-A15C-E3B6E6D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0CE-15C5-4227-969A-BE6872D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763-B3DE-432C-AD5F-2A5A5ADA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C396-B2FF-460F-BA20-F51F128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61F-D4BE-4E39-AC2D-45438C2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A2A-D0EE-4778-98E3-8D684F1B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8EA-2A7A-4E27-9625-060180E6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16D-783F-48A7-9BCB-E4A7353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AB0-BC1A-481D-8917-335FDBC2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D1C-1D67-482A-91DC-B7E8808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9D2-9DBD-439B-BEB8-04BB4CAB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A1F-98D6-4C0C-9293-ADD48E7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535-06E7-47E9-8E5A-4E98522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B9F-DD72-405F-B74A-2AAD427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Rectangle 7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1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AutoShape 8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AutoShape 9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E658-C3C4-4927-BD1A-B6ECCBB7938B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Rectangle 8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1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AutoShape 9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AutoShape 10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FEF4-E9AA-4292-B8F0-B6DA9730C2E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2.uni-jena.de/chemie/geowiss/angeol/projekte/xenolith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y Teena and Phil Della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the tune of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Joy to the World”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609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Relative Dating Karaoke</a:t>
            </a:r>
            <a:endParaRPr b="1" lang="en-US" sz="7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242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ross-cutting relationships – faults and dikes are younger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10" descr="Fig5a"/>
          <p:cNvPicPr/>
          <p:nvPr/>
        </p:nvPicPr>
        <p:blipFill>
          <a:blip r:embed="rId1"/>
          <a:stretch/>
        </p:blipFill>
        <p:spPr>
          <a:xfrm>
            <a:off x="1066680" y="925560"/>
            <a:ext cx="6782040" cy="31986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 they cut acros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1" name="Picture 4" descr="faults"/>
          <p:cNvPicPr/>
          <p:nvPr/>
        </p:nvPicPr>
        <p:blipFill>
          <a:blip r:embed="rId1"/>
          <a:stretch/>
        </p:blipFill>
        <p:spPr>
          <a:xfrm>
            <a:off x="2514600" y="228600"/>
            <a:ext cx="3886200" cy="50292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 they cut across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Picture 4" descr="faults"/>
          <p:cNvPicPr/>
          <p:nvPr/>
        </p:nvPicPr>
        <p:blipFill>
          <a:blip r:embed="rId1"/>
          <a:stretch/>
        </p:blipFill>
        <p:spPr>
          <a:xfrm>
            <a:off x="1676520" y="838080"/>
            <a:ext cx="5979960" cy="39704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, the layers they cut across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5" name="Picture 4" descr="rocks9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32590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Is much cheaper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absolute dating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" name="Picture 3" descr="victoria turns 5"/>
          <p:cNvPicPr/>
          <p:nvPr/>
        </p:nvPicPr>
        <p:blipFill>
          <a:blip r:embed="rId1"/>
          <a:stretch/>
        </p:blipFill>
        <p:spPr>
          <a:xfrm>
            <a:off x="1676520" y="676440"/>
            <a:ext cx="5943600" cy="39193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ncluded fragments or xenolith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0" name="Picture 4" descr="xenolith"/>
          <p:cNvPicPr/>
          <p:nvPr/>
        </p:nvPicPr>
        <p:blipFill>
          <a:blip r:embed="rId1"/>
          <a:stretch/>
        </p:blipFill>
        <p:spPr>
          <a:xfrm>
            <a:off x="2514600" y="609480"/>
            <a:ext cx="467532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 than the rock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2" name="Picture 4" descr="xenolith1"/>
          <p:cNvPicPr/>
          <p:nvPr/>
        </p:nvPicPr>
        <p:blipFill>
          <a:blip r:embed="rId1"/>
          <a:stretch/>
        </p:blipFill>
        <p:spPr>
          <a:xfrm>
            <a:off x="1981080" y="685800"/>
            <a:ext cx="5486400" cy="38545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 than the rock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" name="Picture 4" descr="xenoli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770040"/>
            <a:ext cx="5333760" cy="40161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, older than the rock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Picture 4" descr="XenolithDonnerPass"/>
          <p:cNvPicPr/>
          <p:nvPr/>
        </p:nvPicPr>
        <p:blipFill>
          <a:blip r:embed="rId1"/>
          <a:stretch/>
        </p:blipFill>
        <p:spPr>
          <a:xfrm>
            <a:off x="1600200" y="762120"/>
            <a:ext cx="6095880" cy="41115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Compares two thing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" name="Joy To The World - Instrumental with Lyrics (no vocals)" descr=""/>
          <p:cNvPicPr/>
          <p:nvPr/>
        </p:nvPicPr>
        <p:blipFill>
          <a:blip r:embed="rId1"/>
          <a:stretch/>
        </p:blipFill>
        <p:spPr>
          <a:xfrm>
            <a:off x="3238560" y="12574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Is not complete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Some layers may be missing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01840" y="0"/>
            <a:ext cx="211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1" lang="en-US" sz="305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Unconformity – is missing time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1" name="Picture 3" descr="unconformity_final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2712960"/>
          </a:xfrm>
          <a:prstGeom prst="rect">
            <a:avLst/>
          </a:prstGeom>
          <a:ln w="0">
            <a:noFill/>
          </a:ln>
        </p:spPr>
      </p:pic>
      <p:sp>
        <p:nvSpPr>
          <p:cNvPr id="132" name="Line 5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 have disappeared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4" name="Picture 4" descr="unconformity"/>
          <p:cNvPicPr/>
          <p:nvPr/>
        </p:nvPicPr>
        <p:blipFill>
          <a:blip r:embed="rId1"/>
          <a:stretch/>
        </p:blipFill>
        <p:spPr>
          <a:xfrm>
            <a:off x="1219320" y="838080"/>
            <a:ext cx="6705360" cy="3570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135" name="Line 6"/>
          <p:cNvSpPr/>
          <p:nvPr/>
        </p:nvSpPr>
        <p:spPr>
          <a:xfrm flipH="1" flipV="1">
            <a:off x="7009920" y="2361960"/>
            <a:ext cx="1143000" cy="75960"/>
          </a:xfrm>
          <a:prstGeom prst="line">
            <a:avLst/>
          </a:prstGeom>
          <a:ln w="316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 have disappear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7" name="Picture 4" descr="unconformity"/>
          <p:cNvPicPr/>
          <p:nvPr/>
        </p:nvPicPr>
        <p:blipFill>
          <a:blip r:embed="rId1"/>
          <a:stretch/>
        </p:blipFill>
        <p:spPr>
          <a:xfrm>
            <a:off x="1371600" y="1001880"/>
            <a:ext cx="6324480" cy="361620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533520" y="3200400"/>
            <a:ext cx="914400" cy="0"/>
          </a:xfrm>
          <a:prstGeom prst="line">
            <a:avLst/>
          </a:prstGeom>
          <a:ln w="414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, if layers have disappear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0" name="Picture 3" descr="Unconformity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2195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o see which one’s older.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Picture 3" descr="2003_11_15"/>
          <p:cNvPicPr/>
          <p:nvPr/>
        </p:nvPicPr>
        <p:blipFill>
          <a:blip r:embed="rId1"/>
          <a:stretch/>
        </p:blipFill>
        <p:spPr>
          <a:xfrm>
            <a:off x="2666880" y="304920"/>
            <a:ext cx="3886200" cy="5181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e law of superposition – oldest is on the bottom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6" name="Picture 6" descr="flatLayer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35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1127520" y="3546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ldest</a:t>
            </a: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8440" y="2556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oungest</a:t>
            </a: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 are not overturned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FoldRecumbent"/>
          <p:cNvPicPr/>
          <p:nvPr/>
        </p:nvPicPr>
        <p:blipFill>
          <a:blip r:embed="rId1"/>
          <a:stretch/>
        </p:blipFill>
        <p:spPr>
          <a:xfrm>
            <a:off x="1676520" y="228600"/>
            <a:ext cx="5624280" cy="5424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 are not overturned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2" name="Picture 6" descr="overturn"/>
          <p:cNvPicPr/>
          <p:nvPr/>
        </p:nvPicPr>
        <p:blipFill>
          <a:blip r:embed="rId1"/>
          <a:stretch/>
        </p:blipFill>
        <p:spPr>
          <a:xfrm>
            <a:off x="762120" y="1295280"/>
            <a:ext cx="7924680" cy="32083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, if rocks are not overturn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4" name="Picture 5" descr="P0001051"/>
          <p:cNvPicPr/>
          <p:nvPr/>
        </p:nvPicPr>
        <p:blipFill>
          <a:blip r:embed="rId1"/>
          <a:stretch/>
        </p:blipFill>
        <p:spPr>
          <a:xfrm>
            <a:off x="1143000" y="457200"/>
            <a:ext cx="6934320" cy="46227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Sequences thing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With no specific age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7" name="Picture 4" descr="105_0525"/>
          <p:cNvPicPr/>
          <p:nvPr/>
        </p:nvPicPr>
        <p:blipFill>
          <a:blip r:embed="rId1"/>
          <a:stretch/>
        </p:blipFill>
        <p:spPr>
          <a:xfrm>
            <a:off x="3048120" y="533520"/>
            <a:ext cx="308592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22:01:23Z</dcterms:created>
  <dc:creator>Mian Liu</dc:creator>
  <dc:description/>
  <dc:language>en-US</dc:language>
  <cp:lastModifiedBy>Della, Teena</cp:lastModifiedBy>
  <cp:lastPrinted>1999-08-23T22:27:22Z</cp:lastPrinted>
  <dcterms:modified xsi:type="dcterms:W3CDTF">2015-05-01T15:33:17Z</dcterms:modified>
  <cp:revision>77</cp:revision>
  <dc:subject/>
  <dc:title>Principles of Geology</dc:title>
</cp:coreProperties>
</file>